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521-AE87-4E8A-9427-1C0023C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26E-A43E-47E0-BFD7-D04989DA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854-8B4D-4356-8548-56B406C8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B24-E213-49AF-9033-F2D04381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E2E-E5E0-4D48-B869-EE322069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A02-C41F-42D9-A2BF-6DB6A3D5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826-8C28-495A-8698-794D7AE7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610-148E-434A-BC0A-71C7C6B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36F-940E-4ED8-B391-907AC78C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472-4FFE-435D-BD78-4FCAC9C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1F1-D66F-4765-85C9-33F47CE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C1C-AEEC-4A1D-9F0D-702CA3B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115-3999-4553-ACDA-9243F67A7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G_01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icture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orded Sound" descr=""/>
          <p:cNvPicPr/>
          <p:nvPr/>
        </p:nvPicPr>
        <p:blipFill>
          <a:blip r:embed="rId2"/>
          <a:stretch/>
        </p:blipFill>
        <p:spPr>
          <a:xfrm>
            <a:off x="8572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2:52:01Z</dcterms:created>
  <dc:creator>jlew005</dc:creator>
  <dc:description/>
  <dc:language>en-US</dc:language>
  <cp:lastModifiedBy>jlew005</cp:lastModifiedBy>
  <dcterms:modified xsi:type="dcterms:W3CDTF">2010-02-12T01:46:26Z</dcterms:modified>
  <cp:revision>5</cp:revision>
  <dc:subject/>
  <dc:title>Slide 1</dc:title>
</cp:coreProperties>
</file>